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174-4A2B-441A-9B5E-2EDCA09B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DC2-EAB7-4D77-9CBB-4479578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D87-5D43-4358-AB15-31F072FD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D05-12B8-48E1-874C-BBD65719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19BF-46DC-44F4-868B-D792D53A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214A-BFC7-4721-B91B-A6A9C1A3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C674-0A2B-4425-87DA-B9543084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5C7E-D971-4457-AFBF-62F5E656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951E-02CF-4CE7-A4EE-37C1802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D4D-DF44-4712-B020-635B81C2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A886-2655-45B4-9C6F-99BB7E06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00B-30D9-4DFB-ACE7-78CE6A5A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8D9C-9BE7-4D30-A55E-7481CC87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CDFD-4FDE-492F-83EE-0FA1866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319D-4A5F-4327-A98C-C2C68504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F138-8954-4B47-AD3A-F1B646DA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136F-4198-4290-9911-F880722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141-167E-4AF4-970D-B40151A9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69E-230B-4DDE-B992-154CFF42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548-23E8-4177-A3D6-2F26FB3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AB4-F953-4AC4-88CA-7CC349AE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B15-DC9F-4D6B-8411-5AA0B72C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DFB-DEE2-43EA-914E-01BE17C2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400-2D85-4FFA-8F76-D4E84A1C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E8F-52F9-4707-BCE7-9E9F71701B6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28DE-36F5-4234-BA82-A0876ABF242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8680" y="45720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4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152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s minas e demais riqezas do subsolo, bem como as quedas d’águas, constituem propriedade distinta da do solo para efeito de exploração ou aproveitamento indus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8:37:37Z</dcterms:modified>
  <cp:revision>75</cp:revision>
  <dc:subject/>
  <dc:title>Apresentação do PowerPoint</dc:title>
</cp:coreProperties>
</file>